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337-615E-4E27-826D-38502A06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B3B-13B2-4D60-8850-A7D966FB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FEE-E844-4852-96A1-43B4BD63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AF3-BEFA-41C2-BCBE-E75A4F05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467-A9A3-4BFA-880A-4EF0115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001-67A9-4EEA-ABF3-E061902C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630-B996-47A3-A8BE-C6778F79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136-2269-4161-8BB5-FEC24956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609-F900-4DB7-8C68-5BC24CC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C06-D6F9-4F36-B508-5B1E26DE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711-60BC-4FE2-ABBE-AE41EE88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463-C55B-4AD6-BCC1-F4EF5A2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6D1-6CCA-48F4-8677-F5E262D7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com/imgres?q=montana+state+flower&amp;hl=en&amp;biw=948&amp;bih=471&amp;tbm=isch&amp;imgrefurl=http://www.statesymbolsusa.org/South_Dakota/flower_pasque.html&amp;tbnid=jn4z7DTR-p1y3M&amp;docid=V1Q8FoN7j6VmnM&amp;ved=0CGoQhRYoAQ&amp;ei=NhexT6GdH4LV0QHinLGXDA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DEV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ontana Image"/>
          <p:cNvPicPr/>
          <p:nvPr/>
        </p:nvPicPr>
        <p:blipFill>
          <a:blip r:embed="rId1"/>
          <a:stretch/>
        </p:blipFill>
        <p:spPr>
          <a:xfrm>
            <a:off x="1905120" y="216000"/>
            <a:ext cx="495288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4336920"/>
            <a:ext cx="411480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303800"/>
            <a:ext cx="4114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’s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ana’s capital is Hel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’s State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ana’s statehood is November 8,1889(41st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621240"/>
            <a:ext cx="4572000" cy="32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’s 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ana’s bird is the western meadow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334120" cy="480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’s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ana’s flower is called bitter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098800"/>
            <a:ext cx="4648320" cy="475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13372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37:06Z</dcterms:created>
  <dc:creator>Mother of Divine Grace</dc:creator>
  <dc:description/>
  <dc:language>en-US</dc:language>
  <cp:lastModifiedBy> </cp:lastModifiedBy>
  <dcterms:modified xsi:type="dcterms:W3CDTF">2012-05-20T21:21:22Z</dcterms:modified>
  <cp:revision>3</cp:revision>
  <dc:subject/>
  <dc:title>Montana</dc:title>
</cp:coreProperties>
</file>